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chimes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D96-E319-4459-B201-AC77B0AD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5A5-1088-472E-BC2B-33ED9EF7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663-25AA-4CB3-A3A0-9412D091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4DD3-1D0A-468D-9FD7-CDA372F0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16F2-158A-4EF0-BCC5-8170E593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A8DB-BB75-40D7-B395-4DE21385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C915-57A2-4F58-B897-BAE534C6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B90-EA31-445D-A917-7034D1B2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BA35-E289-4BD3-968B-4AD49091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2262-471D-413C-BD49-73458422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C329-070A-44AB-A0EE-76997CD3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B524-43AE-4001-B385-BF035461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7629-ED48-42E2-9746-C046E4102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jetflyby2.wav"/><Relationship Id="rId9" Type="http://schemas.openxmlformats.org/officeDocument/2006/relationships/audio" Target="../media/chimes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jetflyby2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audio" Target="../media/jetflyby2.wav"/><Relationship Id="rId26" Type="http://schemas.openxmlformats.org/officeDocument/2006/relationships/audio" Target="../media/jetflyby2.wav"/><Relationship Id="rId27" Type="http://schemas.openxmlformats.org/officeDocument/2006/relationships/audio" Target="../media/jetflyby2.wav"/><Relationship Id="rId28" Type="http://schemas.openxmlformats.org/officeDocument/2006/relationships/audio" Target="../media/jetflyby2.wav"/><Relationship Id="rId29" Type="http://schemas.openxmlformats.org/officeDocument/2006/relationships/audio" Target="../media/jetflyby2.wav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chimes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jetflyby2.wav"/><Relationship Id="rId19" Type="http://schemas.openxmlformats.org/officeDocument/2006/relationships/audio" Target="../media/zapbig0g.wav"/><Relationship Id="rId20" Type="http://schemas.openxmlformats.org/officeDocument/2006/relationships/audio" Target="../media/hzipup01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bserie06.wav"/><Relationship Id="rId7" Type="http://schemas.openxmlformats.org/officeDocument/2006/relationships/audio" Target="../media/zapbig0g.wav"/><Relationship Id="rId8" Type="http://schemas.openxmlformats.org/officeDocument/2006/relationships/audio" Target="../media/jetflyby2.wav"/><Relationship Id="rId9" Type="http://schemas.openxmlformats.org/officeDocument/2006/relationships/audio" Target="../media/chimes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jetflyby2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chimes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jetflyby2.wav"/><Relationship Id="rId19" Type="http://schemas.openxmlformats.org/officeDocument/2006/relationships/audio" Target="../media/zapbig0g.wav"/><Relationship Id="rId20" Type="http://schemas.openxmlformats.org/officeDocument/2006/relationships/audio" Target="../media/hzipup01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audio" Target="../media/jetflyby2.wav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chimes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jetflyby2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33440" y="1917720"/>
                <a:ext cx="7621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9560" y="3851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574640" y="1566720"/>
                <a:ext cx="62712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28840" y="3025800"/>
                <a:ext cx="82368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073320" y="1606680"/>
                <a:ext cx="8366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086280" y="3024360"/>
                <a:ext cx="84276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7445520" y="1330200"/>
                <a:ext cx="7808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100240" y="2394000"/>
                <a:ext cx="7858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060640" y="1536840"/>
                <a:ext cx="7858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236760" y="1633680"/>
                <a:ext cx="5032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214720" y="3852720"/>
                <a:ext cx="6174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192400" y="3067200"/>
                <a:ext cx="617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252960" y="3119400"/>
                <a:ext cx="558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624560" y="1927080"/>
            <a:ext cx="451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numerators, put it over the common denominator and change into mixed number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090960" y="4680000"/>
                <a:ext cx="8953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178080" y="5710320"/>
                <a:ext cx="7844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948120" y="5170320"/>
                <a:ext cx="95256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921200" y="4654440"/>
                <a:ext cx="61776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838760" y="5635800"/>
                <a:ext cx="7858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499000" y="4713120"/>
                <a:ext cx="9525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475240" y="5562720"/>
                <a:ext cx="954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500880" y="5172120"/>
                <a:ext cx="9525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429680" y="4654440"/>
                <a:ext cx="61740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461360" y="5634000"/>
                <a:ext cx="558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85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11120" y="1917720"/>
                <a:ext cx="80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9560" y="3851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574640" y="1566720"/>
                <a:ext cx="62712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557360" y="3025800"/>
                <a:ext cx="56664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021120" y="1571760"/>
                <a:ext cx="94140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033720" y="3024360"/>
                <a:ext cx="94788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403960" y="1760400"/>
                <a:ext cx="5014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100240" y="2394000"/>
                <a:ext cx="7858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060640" y="1536840"/>
                <a:ext cx="7858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209760" y="1538280"/>
                <a:ext cx="5590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158920" y="3825720"/>
                <a:ext cx="728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136600" y="3040200"/>
                <a:ext cx="730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103560" y="3067200"/>
                <a:ext cx="7826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4624560" y="2558880"/>
            <a:ext cx="451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numerators, put it over the common denominator and change into mixed number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036960" y="4741920"/>
                <a:ext cx="100656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157560" y="4808520"/>
                <a:ext cx="784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391520" y="1716120"/>
                <a:ext cx="8935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288120" y="1738440"/>
                <a:ext cx="7808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25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11120" y="1917720"/>
                <a:ext cx="80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9560" y="3851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609560" y="1633680"/>
                <a:ext cx="5223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531800" y="3025800"/>
                <a:ext cx="61920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203640" y="1571760"/>
                <a:ext cx="57456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218040" y="3024360"/>
                <a:ext cx="57924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127240" y="2367000"/>
                <a:ext cx="7304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124000" y="1630440"/>
                <a:ext cx="730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098880" y="1598760"/>
                <a:ext cx="7826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214720" y="3852720"/>
                <a:ext cx="6159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192400" y="3067200"/>
                <a:ext cx="617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216240" y="3041640"/>
                <a:ext cx="5587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4624560" y="2558880"/>
            <a:ext cx="451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numerators, put it over the common denominator and change into mixed number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036960" y="4741920"/>
                <a:ext cx="100656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157560" y="4836960"/>
                <a:ext cx="7840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586640" y="1687680"/>
                <a:ext cx="5032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542960" y="1527120"/>
                <a:ext cx="57492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92680" y="5170320"/>
                <a:ext cx="106344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894200" y="4654440"/>
                <a:ext cx="67320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960800" y="5626080"/>
                <a:ext cx="5065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11120" y="1917720"/>
                <a:ext cx="80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9560" y="3851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574640" y="1566720"/>
                <a:ext cx="62712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557360" y="3025800"/>
                <a:ext cx="56664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073320" y="1571760"/>
                <a:ext cx="8366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086280" y="3024360"/>
                <a:ext cx="84132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03960" y="1760400"/>
                <a:ext cx="5014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128680" y="2367000"/>
                <a:ext cx="729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139840" y="1560600"/>
                <a:ext cx="730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098880" y="1511280"/>
                <a:ext cx="7826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158920" y="3825720"/>
                <a:ext cx="728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136600" y="3040200"/>
                <a:ext cx="730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243240" y="3067200"/>
                <a:ext cx="5032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624560" y="2558880"/>
            <a:ext cx="451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numerators, put it over the common denominator and change into mixed number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092400" y="4741920"/>
                <a:ext cx="89532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157560" y="4808520"/>
                <a:ext cx="784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7446960" y="1739880"/>
                <a:ext cx="7826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288120" y="1738440"/>
                <a:ext cx="7808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948120" y="5170320"/>
                <a:ext cx="95256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911840" y="4689360"/>
                <a:ext cx="67284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856040" y="5661000"/>
                <a:ext cx="7858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11120" y="1917720"/>
                <a:ext cx="80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560" y="3851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00200" y="1566720"/>
                <a:ext cx="5745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428840" y="3025800"/>
                <a:ext cx="82368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021120" y="1571760"/>
                <a:ext cx="94140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033720" y="3024360"/>
                <a:ext cx="94608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128680" y="2436840"/>
                <a:ext cx="729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139840" y="1560600"/>
                <a:ext cx="730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098880" y="1511280"/>
                <a:ext cx="7826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131920" y="3852720"/>
                <a:ext cx="7844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109960" y="3067200"/>
                <a:ext cx="785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103560" y="3067200"/>
                <a:ext cx="7826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4624560" y="2558880"/>
            <a:ext cx="451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Add the numerators, put it over the common denominator and change into mixed number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036960" y="4741920"/>
                <a:ext cx="100656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102120" y="4808520"/>
                <a:ext cx="896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391520" y="1768320"/>
                <a:ext cx="8953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288120" y="1789200"/>
                <a:ext cx="780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48120" y="5170320"/>
                <a:ext cx="95256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827600" y="4773600"/>
                <a:ext cx="841320" cy="17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800600" y="5688000"/>
                <a:ext cx="8985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99, 8 – 3 #1-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7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5-01-18T14:02:24Z</dcterms:modified>
  <cp:revision>78</cp:revision>
  <dc:subject/>
  <dc:title>Slide 1</dc:title>
</cp:coreProperties>
</file>